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4.jpeg" ContentType="image/jpe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775C-E8C8-4316-A421-FECD852D9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F305-AB6D-4783-B029-81296EFA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724F-29E4-4ACD-AEF1-C16D37226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4D3E-E1A6-49A4-B46A-95E718B52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6227-9992-4D7B-B12F-AE31E061D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CD53-B947-4356-8CBB-981A42DC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7329-CD09-4745-80E6-6214A3E1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84E9-CA86-456D-86BC-F629A2E8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C6FE-8757-4093-A5B0-6E688E0B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AB65-5880-412E-84C7-6FF479CC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4C5C-6EDE-4FD1-A501-4A8BB327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C9A7-1B6E-42BD-A184-037466E1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0646-083D-4E92-A6E6-06A05B62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9346-95F7-4F85-B362-6BE0B0FD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AB1B-8C8B-432D-A2B0-041DA489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462B-B8F5-4FD9-8C9B-59CC58CFA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B1E2-4365-4FB1-B018-02D7073FC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34C46-C434-4CE2-A2A8-54587F605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04884-8C48-45F6-92E5-E6D55073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4D3E9-E47A-4C1F-AA75-0FC02E7B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E911D-BACF-4D01-845C-06EBB853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D42E3-22C3-404A-B3E7-1EE63DCD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89EA-673C-47B9-9C52-66BD82F9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514A9-C05A-4ED6-B19F-42D5E24F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93562-EDD3-46B3-A11F-F577926F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E1270-679A-4018-BE19-14176184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1EC51-0DD1-4CEF-B6A1-7270C4AB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54C9A-DE0D-4AF4-BC1A-1F596581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EE383-84B7-478F-A98A-1EE8265B3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A339F-4233-4166-88DE-B52D3703E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D27C3-1A90-4889-A518-BCCE52287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444B2-780A-43EF-865E-00CEF94E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E8392-C3DB-4881-AE47-BAFD97AA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B94B-0F01-4538-8C72-B9CDFA47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03D7B-E3C1-4E70-8F45-9F3162A2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49E83-CDAB-4299-8CEF-25D72A7C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C2AAD-C966-4CEB-8DB6-57BE9FA5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49264-AAE1-46C7-96CA-ED62EE8A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69A86-C7C9-4FE2-96D0-86D3D33E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EA98A-ECD1-412C-B316-B61E1A1B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B6963-CC0F-4A2F-9141-D7D1A7DF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62DC7-717E-4825-9175-CD808FF40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F45FE-6FDE-4857-8F23-0093F2CB0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BC576-5641-4AC4-AABB-75409C669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F2D0-87E0-4597-99F6-D0E05A25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6530A-13E9-4F05-99E3-63AA9414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EEB2B-F234-4867-BD03-7BC9E349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7727A-F656-47EB-9E56-534A7278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0CA5E-3C9C-46DD-8593-326DCEFD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D7050-9917-411F-9DB7-0DBE2F3C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31755-7199-48C4-B0F9-4E5B6ED4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2B76B-E26C-4915-89F9-642E9044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F2581-910F-41F3-8C3F-B3888C2F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531B4-C932-46F7-900C-F97EFB3E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D8D48-651E-4C13-B51B-0F6947D3C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C48E-FD06-4574-994F-0D5DBB6C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306C1-4AB9-4DF8-A068-442859FEB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E516B-7524-458F-8BD7-B95BD3CAB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2D86B-7411-45B7-B5CD-8A83B14A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5810D-C0E3-43B6-B7B1-8B2B7C09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972AD-518F-4859-AC2C-C49CCD02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258A6-D7C6-4875-A985-9EE9AD87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D1075-5356-454D-B9E3-2F39C8D3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7E870-B562-4373-B730-9F7C84C8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35E07-D228-42B3-8598-B159D82C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22E24-97AA-4841-96A4-CCEF2217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B222-EBE3-458E-8B72-62AF88AD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21975-E6FB-45B2-B0B2-66D08B2E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58E11-F297-4899-AF4B-2CD83EC59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CFC5F-EBE5-4D6A-A164-591897F81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6BD3D-905E-4E3D-AE90-A92BA9567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65938-DFA1-446E-ABEF-7BC00DDE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51B83-3312-4AA8-B03F-0E6DAAD4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C3813-4595-4382-A2D3-ADCD9C1F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CF4C9-2526-4DAB-9771-D4B738A4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A77FC-CFD6-4439-8ED5-5382F76F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831EB-9A25-4885-A811-9B2F83FA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19C7-E3C7-4371-A197-3E8270F9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C2479-D256-4658-B79F-BD595D7B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9AAA7-36D5-496D-9B1E-4B575F9A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74B69-1842-4E15-A360-2AFA01F0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B5B69-3541-413F-B85E-E3AFA4E4D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D5D70-A153-48BE-8518-6EE16EA54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FFE4-3731-4C83-968F-EB552E9B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880D-9BFF-4251-A0C4-380CBE27AC6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F240-6DE6-41FD-9761-B6A0D1076504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7C3B-05BA-4F30-BB66-79957E0F3E5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1D3B-D80C-4A7A-B1BA-5B87CEF5DB52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13BA-3BB5-4D21-84EF-CD67F6B0A81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BDE9-5203-4BE7-9E03-1457DE2C558B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D339-62CD-488B-8052-5FBEB7EAF5C4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hyperlink" Target="http://www.algaebase.org/search/species/detail/?species_id=28199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74613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Bacillariophyta 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Bacillariophyta are the diatoms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xtremely abundant both in the plankton and in sediments in marine and freshwater ecosystem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ome may even be found in soils or on moist mosses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Have hard bivalve shells composed mostly of silica, and often live in colonies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enerally green or brown in color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rry out photosynthesis, and therefore are an important food source for marine organisms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Bacillariophyta (Diatoms)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23" name="Picture 7" descr="centriclive"/>
          <p:cNvPicPr/>
          <p:nvPr/>
        </p:nvPicPr>
        <p:blipFill>
          <a:blip r:embed="rId1"/>
          <a:stretch/>
        </p:blipFill>
        <p:spPr>
          <a:xfrm>
            <a:off x="380880" y="1523880"/>
            <a:ext cx="2578320" cy="26672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odontella"/>
          <p:cNvPicPr/>
          <p:nvPr/>
        </p:nvPicPr>
        <p:blipFill>
          <a:blip r:embed="rId2"/>
          <a:stretch/>
        </p:blipFill>
        <p:spPr>
          <a:xfrm>
            <a:off x="5486400" y="1490760"/>
            <a:ext cx="3228840" cy="27734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1" descr="300px-Diatoms_in_dark_field_lighting"/>
          <p:cNvPicPr/>
          <p:nvPr/>
        </p:nvPicPr>
        <p:blipFill>
          <a:blip r:embed="rId3"/>
          <a:stretch/>
        </p:blipFill>
        <p:spPr>
          <a:xfrm>
            <a:off x="2438280" y="3809880"/>
            <a:ext cx="37339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Phaeophyta 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6480" indent="-57132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ommon Name: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Brown Alga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largest of the chromis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ike most photosynthetic protists, have traditionally been classified as plan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1031760" indent="-495360"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However, phaeophytes are not closely related to land plants; their cells contain different pigments, such as chlorophyll </a:t>
            </a:r>
            <a:r>
              <a:rPr b="0" i="1" lang="en-US" sz="2000" spc="-1" strike="noStrike">
                <a:solidFill>
                  <a:srgbClr val="ffffff"/>
                </a:solidFill>
                <a:latin typeface="Century Gothic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and fucoxanthin.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1031760" indent="-495360"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y also lack the plasmodesmata and starch production of land plants and their relatives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largest brown algae may reach over 30 meters in length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Phaeophyta (Brown Algae)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29" name="Picture 6" descr="fucussm"/>
          <p:cNvPicPr/>
          <p:nvPr/>
        </p:nvPicPr>
        <p:blipFill>
          <a:blip r:embed="rId1"/>
          <a:stretch/>
        </p:blipFill>
        <p:spPr>
          <a:xfrm>
            <a:off x="457200" y="1905120"/>
            <a:ext cx="3484440" cy="4267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8" descr="ems"/>
          <p:cNvPicPr/>
          <p:nvPr/>
        </p:nvPicPr>
        <p:blipFill>
          <a:blip r:embed="rId2"/>
          <a:stretch/>
        </p:blipFill>
        <p:spPr>
          <a:xfrm>
            <a:off x="4191120" y="2057400"/>
            <a:ext cx="4495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Rhodophyta 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6480" indent="-57132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Common Name: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Red Alga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Red algae are red because of the presence of the pigment phycoerythrin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1031760" indent="-49536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This pigment reflects red light and absorbs blue light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Because blue light penetrates water to a greater depth than light of longer wavelengths, these pigments allow red algae to photosynthesize and live at somewhat greater depths than most other "algae"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ome rhodophytes have very little phycoerythrin, and may appear green or bluish from the chlorophyll and other pigments present in them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Red algae have a number of general characteristics that in combination distinguish them from other eukaryotic groups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1031760" indent="-49536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absence of flagella and centrioles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1031760" indent="-49536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floridean starch as a storage product and the storage of starch in the cytoplasm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1031760" indent="-49536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phycoerythrin, phycocyanin, and allophycocyanin as accessory pigments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1031760" indent="-49536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unstacked thylakoids in plastid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1031760" indent="-49536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no chloroplast endoplasmic reticulum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Rhodophyta (Red Algae)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34" name="Picture 7" descr="redtitle1a"/>
          <p:cNvPicPr/>
          <p:nvPr/>
        </p:nvPicPr>
        <p:blipFill>
          <a:blip r:embed="rId1"/>
          <a:stretch/>
        </p:blipFill>
        <p:spPr>
          <a:xfrm>
            <a:off x="152280" y="1752480"/>
            <a:ext cx="2878200" cy="44960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redtitle2a"/>
          <p:cNvPicPr/>
          <p:nvPr/>
        </p:nvPicPr>
        <p:blipFill>
          <a:blip r:embed="rId2"/>
          <a:stretch/>
        </p:blipFill>
        <p:spPr>
          <a:xfrm>
            <a:off x="3124080" y="1600200"/>
            <a:ext cx="2838600" cy="28386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redtitle3a"/>
          <p:cNvPicPr/>
          <p:nvPr/>
        </p:nvPicPr>
        <p:blipFill>
          <a:blip r:embed="rId3"/>
          <a:stretch/>
        </p:blipFill>
        <p:spPr>
          <a:xfrm>
            <a:off x="6151680" y="1600200"/>
            <a:ext cx="2730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Rhizopoda 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6480" indent="-57132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phylum Rhizopoda includes a large group of protists that move by means of pseudopods (extensions of the cytoplasm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Use their pseudopods to capture prey and also for locomotio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re heterotrophic, feeding on a wide range of bacteria, algae and other protists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1031760" indent="-49536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 most familiar would be ameba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1031760" indent="-495360"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Heliozoa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1031760" indent="-495360"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Radiolari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6" descr="Ameba"/>
          <p:cNvPicPr/>
          <p:nvPr/>
        </p:nvPicPr>
        <p:blipFill>
          <a:blip r:embed="rId1"/>
          <a:stretch/>
        </p:blipFill>
        <p:spPr>
          <a:xfrm>
            <a:off x="4724280" y="228600"/>
            <a:ext cx="2971800" cy="2567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7" descr=""/>
          <p:cNvPicPr/>
          <p:nvPr/>
        </p:nvPicPr>
        <p:blipFill>
          <a:blip r:embed="rId2"/>
          <a:stretch/>
        </p:blipFill>
        <p:spPr>
          <a:xfrm>
            <a:off x="4800600" y="3352680"/>
            <a:ext cx="2581200" cy="25513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9" descr="radiolaria-jj-001"/>
          <p:cNvPicPr/>
          <p:nvPr/>
        </p:nvPicPr>
        <p:blipFill>
          <a:blip r:embed="rId3"/>
          <a:stretch/>
        </p:blipFill>
        <p:spPr>
          <a:xfrm>
            <a:off x="914400" y="33526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2"/>
          <p:cNvSpPr/>
          <p:nvPr/>
        </p:nvSpPr>
        <p:spPr>
          <a:xfrm>
            <a:off x="5715000" y="2743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e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13"/>
          <p:cNvSpPr/>
          <p:nvPr/>
        </p:nvSpPr>
        <p:spPr>
          <a:xfrm>
            <a:off x="5181480" y="5943600"/>
            <a:ext cx="1905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liozo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4"/>
          <p:cNvSpPr/>
          <p:nvPr/>
        </p:nvSpPr>
        <p:spPr>
          <a:xfrm>
            <a:off x="1600200" y="6095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diol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3809880" cy="14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	</a:t>
            </a: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 </a:t>
            </a: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Rhizopoda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Foraminifera 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"Hole Bearers" or forams for short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 large group of chiefly marine amoeboid protists with reticulating pseudopods, fine strands of cytoplasm that branch and merge to form a dynamic ne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y are single-celled protists with shell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eir shells are also referred to as tests because in some forms the protoplasm covers the exterior of the shel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e shells are commonly divided into chambers which are added during growth, though the simplest forms are open tubes or hollow spheres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Depending on the species, the shell may be made of organic compounds, sand grains and other particles cemented together, or crystalline calcit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Examples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alcarina sp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Robulus sp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Nodosaria subcalaris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Foraminfera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49" name="Picture 7" descr="Robulus_sp"/>
          <p:cNvPicPr/>
          <p:nvPr/>
        </p:nvPicPr>
        <p:blipFill>
          <a:blip r:embed="rId1"/>
          <a:stretch/>
        </p:blipFill>
        <p:spPr>
          <a:xfrm>
            <a:off x="4114800" y="533520"/>
            <a:ext cx="3581280" cy="21304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9" descr="Nodosaria_subcalaris"/>
          <p:cNvPicPr/>
          <p:nvPr/>
        </p:nvPicPr>
        <p:blipFill>
          <a:blip r:embed="rId2"/>
          <a:stretch/>
        </p:blipFill>
        <p:spPr>
          <a:xfrm>
            <a:off x="4419720" y="3352680"/>
            <a:ext cx="3552840" cy="24465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10"/>
          <p:cNvSpPr/>
          <p:nvPr/>
        </p:nvSpPr>
        <p:spPr>
          <a:xfrm>
            <a:off x="5181480" y="2286000"/>
            <a:ext cx="205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1219320" y="5867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arina S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Picture 14" descr="Calcarina_sp"/>
          <p:cNvPicPr/>
          <p:nvPr/>
        </p:nvPicPr>
        <p:blipFill>
          <a:blip r:embed="rId3"/>
          <a:stretch/>
        </p:blipFill>
        <p:spPr>
          <a:xfrm>
            <a:off x="228600" y="3352680"/>
            <a:ext cx="4038480" cy="240840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15"/>
          <p:cNvSpPr/>
          <p:nvPr/>
        </p:nvSpPr>
        <p:spPr>
          <a:xfrm>
            <a:off x="5257800" y="2666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bulus sp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17"/>
          <p:cNvSpPr/>
          <p:nvPr/>
        </p:nvSpPr>
        <p:spPr>
          <a:xfrm>
            <a:off x="5105520" y="58672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osaria subcalar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Title 1" descr=""/>
          <p:cNvPicPr/>
          <p:nvPr/>
        </p:nvPicPr>
        <p:blipFill>
          <a:blip r:embed="rId1"/>
          <a:stretch/>
        </p:blipFill>
        <p:spPr>
          <a:xfrm>
            <a:off x="165240" y="262080"/>
            <a:ext cx="7467480" cy="13842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380880" y="1633680"/>
            <a:ext cx="64008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entury Gothic"/>
              </a:rPr>
              <a:t>-They are unicellular, colonial, or simple multicellular organisms that possess a eukaryotic cell organization. 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entury Gothic"/>
              </a:rPr>
              <a:t>-It is a proposed idea that protists were the first eukaryotes to evolve</a:t>
            </a: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. 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Zoomastigophora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freshwater or parasitic unicellular heterotrophs by ingestion, or absorp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movement by flagell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Asexual reproduc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Examples: zooflagellates, gardia, trichomonas, Trypanosoma (African Sleeping sickness)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5c9c"/>
                </a:solidFill>
                <a:latin typeface="Century Gothic"/>
              </a:rPr>
              <a:t>Sporozoa</a:t>
            </a: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 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6480" indent="-5713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Unicellular heterotrophs by absorption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nonmotile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spore-forming parasites of animals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complex life cyc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3,600 species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Examples: Plasniodium (malaria), Pneumocysfis (pricurrionia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5c9c"/>
                </a:solidFill>
                <a:latin typeface="Century Gothic"/>
              </a:rPr>
              <a:t>Ciliophora</a:t>
            </a: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 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6480" indent="-57132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freshwater unicellular heterotrophs by inges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movement by cili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no cell wall but some have a flexible pellicl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a sexual reproduction with complex sexual exchange through conjuga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8,000 species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6480" indent="-57132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Examples: Paramecium, vorticell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5c9c"/>
                </a:solidFill>
                <a:latin typeface="Century Gothic"/>
              </a:rPr>
              <a:t>Acrasiomycota</a:t>
            </a: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 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cellular slime mold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all fungus-lik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Asexual reproduction common by conidiospores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5c9c"/>
                </a:solidFill>
                <a:latin typeface="Century Gothic"/>
              </a:rPr>
              <a:t>Myxomycota</a:t>
            </a: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 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slime mold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organisms having a noncellular and multinucleate creeping vegetative phase and a propagative spore-producing stag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comprises Myxomycetes and Acrasiomycetes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Examples: arcyria cinerea, arcyria denudate, arcyria nutans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5c9c"/>
                </a:solidFill>
                <a:latin typeface="Century Gothic"/>
              </a:rPr>
              <a:t>Oomycota</a:t>
            </a: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 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23520" indent="-55980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Contains over 500 speci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23520" indent="-55980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The majority of these organisms are in the groups commonly known as water molds or downy mildew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23520" indent="-55980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"Oomycota" means "egg fungi“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23520" indent="-55980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Despite the name and their superficial appearance, oomycetes are not fungi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23520" indent="-55980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While some members of Oomycota are relatively harmless, some species are parasitic and negatively affect aquatic plants or organisms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23520" indent="-55980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Examples: saprolegnia, Phytophthora infestans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Title 1" descr=""/>
          <p:cNvPicPr/>
          <p:nvPr/>
        </p:nvPicPr>
        <p:blipFill>
          <a:blip r:embed="rId1"/>
          <a:stretch/>
        </p:blipFill>
        <p:spPr>
          <a:xfrm>
            <a:off x="165240" y="237960"/>
            <a:ext cx="7461000" cy="140184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380520" y="1633680"/>
            <a:ext cx="3886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9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2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-Photosynthesi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2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2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-Their nutrition is plant-lik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1" descr=""/>
          <p:cNvPicPr/>
          <p:nvPr/>
        </p:nvPicPr>
        <p:blipFill>
          <a:blip r:embed="rId1"/>
          <a:stretch/>
        </p:blipFill>
        <p:spPr>
          <a:xfrm>
            <a:off x="165240" y="268200"/>
            <a:ext cx="7461000" cy="137160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380520" y="1633680"/>
            <a:ext cx="3886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-Gre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165240" y="268200"/>
            <a:ext cx="7461000" cy="137160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80880" y="163332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-A moderate sized group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-Unicellular flagellat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601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rimarily freshwater, but important in some marine environmen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601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any are heterotrophic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601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lso called Euglenozoa, euglenoids, euglenophytes,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601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istinctive cell walls composed of spiral strips, termed the "pellicle"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601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xamples: Euglena, Astasi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165240" y="268200"/>
            <a:ext cx="7461000" cy="137160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380880" y="163368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-Dinoflagellates are Alveoles: single celled organisms (protists) which are neither animals nor plants though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-They are found in most aquatic environments and form a major part of the modern plankton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-Living dinoflagellates may be autotrophs, phagotrophs, symbionts or parasites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-Photosynthetic species (autotrophs) account for about half the number of living dinoflagellate genera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-Examples: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Noctiluca, Ceratium, Gonyaulax, Gymnodium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hrysophyta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93840" indent="-3366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hrysophytes, or golden alga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93840" indent="-3366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ommon microscopic chromists in fresh water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93840" indent="-3366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ome species are colorless, but the vast majority are photosynthetic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93840" indent="-3366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no common cell structure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93840" indent="-3366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If flagella are present, there may be one or two; if there are two they may or may not be similar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93840" indent="-3366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hrysophyta tend to be photosynthetic, but some, especially the golden algae, become heterotrophic when there is inadequate light or if dissolved food is plentiful.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93840" indent="-3366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reproduce through cell divisio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93840" indent="-3366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entury Gothic"/>
              </a:rPr>
              <a:t>Anthophysa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5c9c"/>
                </a:solidFill>
                <a:latin typeface="Century Gothic"/>
              </a:rPr>
              <a:t>Chlorophyta</a:t>
            </a: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 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ommon Name: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Green Alga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 large division of chiefly freshwater eukaryotic algae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ossesses chlorophyll a and b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tores food as starch in their plastid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ay be unicellular (one cell) or multicellular (many cell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s group, along with the cyanobacteria, is involved in the change of the atmospheric composition - the change from a reducing atmosphere to an oxidizing atmosphere.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hlorophyta (Green Algae)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17" name="Picture 6" descr="cauart"/>
          <p:cNvPicPr/>
          <p:nvPr/>
        </p:nvPicPr>
        <p:blipFill>
          <a:blip r:embed="rId1"/>
          <a:stretch/>
        </p:blipFill>
        <p:spPr>
          <a:xfrm>
            <a:off x="380880" y="1981080"/>
            <a:ext cx="2768760" cy="42674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8" descr="codver"/>
          <p:cNvPicPr/>
          <p:nvPr/>
        </p:nvPicPr>
        <p:blipFill>
          <a:blip r:embed="rId2"/>
          <a:stretch/>
        </p:blipFill>
        <p:spPr>
          <a:xfrm>
            <a:off x="3276720" y="1447920"/>
            <a:ext cx="3962160" cy="2522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0" descr="closkuetzing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86400" y="411480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4:13:40Z</dcterms:created>
  <dc:creator>Student</dc:creator>
  <dc:description/>
  <dc:language>en-US</dc:language>
  <cp:lastModifiedBy>Teacher</cp:lastModifiedBy>
  <dcterms:modified xsi:type="dcterms:W3CDTF">2009-03-20T14:00:17Z</dcterms:modified>
  <cp:revision>8</cp:revision>
  <dc:subject/>
  <dc:title>Kingdom Protista</dc:title>
</cp:coreProperties>
</file>